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3CD-DCB1-4B9A-BCB3-9633AF0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5F5-FD8B-4A38-B3F0-003A188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4D7-15C2-478A-A85A-D37BAD15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328-E856-4996-BFAB-1710195C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C06-7288-4DCE-8113-2121F41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1A9-D175-42A5-BB6F-6A4FF32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322-0DEC-415C-A5DA-5401A900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815-0FFC-4BF2-972E-A03BCD37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A36-98B0-4631-8BE0-615E389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CB9-A8A9-41E2-B453-54C7F89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75A-5943-41AB-B3FA-7FCC70C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5C5-7371-4478-8A2D-0FD85A8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F3D-3B01-469E-94FF-4260095B30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484280"/>
            <a:ext cx="4968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3.5 Values and Social Change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37192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0400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 looking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3374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male participation rates have climbed from 38% (1970) to 50% (1980) and to 58% (1992) to 63%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ciologists have concluded that th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ldwide increase in femal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tion rates are cau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0595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00080" y="1900080"/>
            <a:ext cx="5840640" cy="39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t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25600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2687760" cy="293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5580000" y="2421000"/>
            <a:ext cx="2551320" cy="307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61672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Stencil"/>
              </a:rPr>
              <a:t>Sing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lief that everyone in society should act and think the sam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Society 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on 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alism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     </a:t>
            </a:r>
            <a:r>
              <a:rPr b="0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v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ystemic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ystem exists that favours one or some groups over the others in terms of hiring, benefits, promotions and pay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457200" y="1579680"/>
            <a:ext cx="8229600" cy="454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102120" cy="2721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4788000" y="907920"/>
            <a:ext cx="25002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403280" y="4041720"/>
            <a:ext cx="2224080" cy="226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867280" y="4041720"/>
            <a:ext cx="28083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le racial minorities, aboriginal, and people physically or mentally challenged continue to run into barriers associated with discrimination, white women have made head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gnificant step was in 1986 when Employment Equity Act was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s purpose was to tackle systemic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 identifies four target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63640" y="1962000"/>
            <a:ext cx="6264360" cy="398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908000" y="1533600"/>
            <a:ext cx="61930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238480" y="1916280"/>
            <a:ext cx="528624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requires that employers develop policies the target groups with workplace equity by hiring goals for each target group (federally regulated indu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feature of the act was to provid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qual pay for work of equa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mployment Equ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means that job classifications must be compared for the skills they require, their responsibilities, working conditions and the work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jobs scoring equally according to these categories must be paid at the sam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spread acceptance of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53708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nvironment and 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inant Paradi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umans have a duty to create material wealth to make this and future generations richer, and a right to dominate, change or even corrupt the natural world in order to d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lieved by most in industry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nvironment and 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lternative Environmental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jects dominant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ciety must place a higher importance on non-material values, encourage stronger communities built on better personal relationships, and act with a greater respect fo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63640" y="1905120"/>
            <a:ext cx="619308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7527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festy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26920" y="1582560"/>
            <a:ext cx="3299040" cy="328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970520" y="1268280"/>
            <a:ext cx="36226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luralism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clu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law abiding people, regardless of their particular background or circumstances, should be able to play a constructive role in the life of the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ically in Canada women had lower participation rates in the work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tion rate calculated by the %of a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ular age group (16-64) availabl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paid work who are actively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d in the paid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clusiveness Exampl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aking Gains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ly over 80% of men participate in the pai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remainder ar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281952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Jason</cp:lastModifiedBy>
  <dcterms:modified xsi:type="dcterms:W3CDTF">2010-11-02T15:01:29Z</dcterms:modified>
  <cp:revision>46</cp:revision>
  <dc:subject/>
  <dc:title>Diapositiva 1</dc:title>
</cp:coreProperties>
</file>